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2.png" ContentType="image/png"/>
  <Override PartName="/ppt/media/image9.png" ContentType="image/png"/>
  <Override PartName="/ppt/media/image16.png" ContentType="image/pn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8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3E25E-0107-47C1-BD6F-423540DF6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49016-1126-4FBE-ADC2-44F39E8BD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A4CEE-9E12-47C3-B0AF-8C3363780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8E36C-BC73-4F01-8781-172FC30FB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3E8C8-98AA-469C-B63B-FA680DB62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D59AC-FD60-41DE-B182-2425BFCE0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3534A-D6FA-4870-84FB-15A64DB5A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3854D-92D8-47AF-98A0-E74DE4A12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A5C0C-FB32-4C7C-82C1-0FFAFD7AF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8160" cy="527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34F65-C369-4AFF-8A82-A695C16CF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81E33-52A8-4229-952E-6DCDBF9C4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F1CEC-B3DF-4966-A4AD-FD0FFAB52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AC8C5-5B44-4043-BA61-7985D5444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7884B-4EB0-4CC1-8021-E56EA8D04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4E16A-C410-4D3F-84BB-CA135A9CB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F04B2-2B9C-4AD2-A3B9-DF00FC54A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F076A-E218-489F-882B-0E10DBC6F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E2D7C-7281-49DA-8A55-2D04BB749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313EE-3EAA-4906-98B8-4688EB67A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0E18C-C054-4C89-996D-4737BBDCA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8160" cy="527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A4616-E26D-45E6-B436-8E216BE91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FB3AF-7A35-41D5-9246-EA0E3033F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1B660-C8C9-4D69-8ABF-F8922A344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20302-E502-4F29-A812-FBC985752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39320" cy="2589480"/>
            <a:chOff x="3240" y="4267080"/>
            <a:chExt cx="9139320" cy="258948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39320" cy="258948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88e4"/>
                </a:gs>
                <a:gs pos="100000">
                  <a:srgbClr val="0068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5680" cy="825480"/>
              <a:chOff x="5600880" y="5897520"/>
              <a:chExt cx="1255680" cy="825480"/>
            </a:xfrm>
          </p:grpSpPr>
          <p:sp>
            <p:nvSpPr>
              <p:cNvPr id="4" name=""/>
              <p:cNvSpPr/>
              <p:nvPr/>
            </p:nvSpPr>
            <p:spPr>
              <a:xfrm>
                <a:off x="5853240" y="6048360"/>
                <a:ext cx="842760" cy="517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6040" cy="4352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4680" cy="32724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4360" cy="25092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3480" cy="16812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6600" cy="25416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3440" cy="1029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39680" cy="3412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480" y="5945040"/>
                <a:ext cx="1189080" cy="73044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0840" cy="457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" bIns="-1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1760" cy="8244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79400" cy="1082520"/>
              <a:chOff x="2819520" y="5764320"/>
              <a:chExt cx="2579400" cy="10825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1240" cy="59688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0400" cy="5252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3800" cy="473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3440" cy="40788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4120" cy="37944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4200" cy="3031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58920" cy="21276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1120" cy="936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1360" cy="29376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4440" cy="7318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4400" cy="7700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69920" cy="39852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fba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4080" cy="23652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0000" cy="7300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69880" cy="8920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09640" cy="6728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3720" cy="3697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1760" cy="10159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3080" cy="1301760"/>
              <a:chOff x="6553080" y="5334120"/>
              <a:chExt cx="2143080" cy="130176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5120" cy="115884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2200" cy="116856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5520" cy="39852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2680" cy="838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7440" cy="16992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5360" cy="5396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29960" cy="1411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6880" cy="68292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1440" cy="8445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7800" cy="1029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2960" cy="7452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0440" cy="5050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6320" cy="42876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1280" cy="36864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1600" cy="27936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0640" cy="21924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198360" cy="1270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3200" cy="407880"/>
              <a:chOff x="8381880" y="4800600"/>
              <a:chExt cx="673200" cy="4078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6600" cy="1508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7880" cy="8424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3600" cy="24624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3480" cy="2700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4160" cy="2937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3760" cy="33192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3040" cy="29376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58560" cy="208080"/>
                <a:chOff x="8542440" y="4897440"/>
                <a:chExt cx="358560" cy="20808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58560" cy="208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7280" cy="160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6920" cy="128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4280" bIns="442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4480" cy="73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5160390-1D03-428A-B950-AEB4BB2780A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39320" cy="2589480"/>
            <a:chOff x="3240" y="4267080"/>
            <a:chExt cx="9139320" cy="258948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39320" cy="258948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88e4"/>
                </a:gs>
                <a:gs pos="100000">
                  <a:srgbClr val="0068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5680" cy="825480"/>
              <a:chOff x="5600880" y="5897520"/>
              <a:chExt cx="1255680" cy="8254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3240" y="6048360"/>
                <a:ext cx="842760" cy="517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6040" cy="4352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4680" cy="32724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4360" cy="25092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3480" cy="16812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6600" cy="25416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3440" cy="1029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39680" cy="3412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480" y="5945040"/>
                <a:ext cx="1189080" cy="73044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0840" cy="457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" bIns="-1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1760" cy="8244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79400" cy="1082520"/>
              <a:chOff x="2819520" y="5764320"/>
              <a:chExt cx="2579400" cy="10825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1240" cy="59688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0400" cy="5252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3800" cy="473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3440" cy="40788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4120" cy="37944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4200" cy="3031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58920" cy="21276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1120" cy="936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1360" cy="29376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4440" cy="7318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4400" cy="7700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69920" cy="39852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fba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4080" cy="23652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0000" cy="7300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69880" cy="8920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09640" cy="6728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3720" cy="3697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1760" cy="10159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3080" cy="1301760"/>
              <a:chOff x="6553080" y="5334120"/>
              <a:chExt cx="2143080" cy="130176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5120" cy="115884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2200" cy="116856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5520" cy="39852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2680" cy="838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7440" cy="16992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5360" cy="5396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29960" cy="1411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6880" cy="68292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1440" cy="8445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7800" cy="1029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2960" cy="7452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0440" cy="5050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6320" cy="42876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1280" cy="36864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1600" cy="27936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0640" cy="21924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198360" cy="1270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3200" cy="407880"/>
              <a:chOff x="8381880" y="4800600"/>
              <a:chExt cx="673200" cy="4078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6600" cy="1508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7880" cy="8424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3600" cy="24624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3480" cy="2700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4160" cy="2937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3760" cy="33192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3040" cy="29376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58560" cy="208080"/>
                <a:chOff x="8542440" y="4897440"/>
                <a:chExt cx="358560" cy="20808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58560" cy="208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7280" cy="160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6920" cy="128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4280" bIns="442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4480" cy="73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0960" cy="17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7200" y="6248160"/>
            <a:ext cx="21319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2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4C1512-35AF-4123-A723-0F197912146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800" spc="-1" strike="noStrike">
                <a:solidFill>
                  <a:srgbClr val="ccecff"/>
                </a:solidFill>
                <a:latin typeface="Arial"/>
              </a:rPr>
              <a:t>The New Deal</a:t>
            </a:r>
            <a:endParaRPr b="0" lang="en-US" sz="8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3930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1828800" y="2362320"/>
            <a:ext cx="5334120" cy="4054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192240"/>
            <a:ext cx="8229600" cy="13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National Labor Relations Act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(Wagner Act)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4343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otected the rights of workers to join labor uni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lped unions and employers negotiate labor disput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5029200" y="1600200"/>
            <a:ext cx="3505320" cy="502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Fair Labor Standards Ac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t federal minimum wage la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0 hour work wee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ederal child labor la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5257800" y="2286000"/>
            <a:ext cx="311796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Fireside Chat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gular radio addresses by FDR to explain to the country what the gov’t was doing to solve probl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2286000" y="3124080"/>
            <a:ext cx="4191120" cy="3087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Did the New Deal work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6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7315200" cy="5230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Farm Pric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6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914400" y="1238400"/>
            <a:ext cx="7315200" cy="4381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Employmen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6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685800" y="1143000"/>
            <a:ext cx="719136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6480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Agricultural Adjustment Administration:  AAA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09480" y="129492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id farmers to grow less (decreased supply means increased valu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vised farmers on techniques to avoid “dust bowl” scenari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2209680" y="3200400"/>
            <a:ext cx="4267440" cy="3451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Civilian Conservation Corps:  CCC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mployed young men to do conservation projects:  trails, roads, planting trees, et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2286000" y="2743200"/>
            <a:ext cx="4495680" cy="3641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Tennessee Valley Authority:  TVA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ilt hydroelectric dams throughout several states in the Sou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vided electricity to rural are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2133720" y="3429000"/>
            <a:ext cx="4647960" cy="2119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orks Progress Agency:  WP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mployed 3.5 million workers in a variety of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ilt construction projects like airports and hospita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ts division employed artists, photographers, and playwrigh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4038480" y="4191120"/>
            <a:ext cx="2133720" cy="213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92240"/>
            <a:ext cx="8229600" cy="13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Federal Deposit Insurance Corporation:  FDIC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uaranteed deposits in banks of up to $2,500 (it is $250,000 today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2286000" y="2895480"/>
            <a:ext cx="4676760" cy="202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ocial Security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vides a pension to retired workers, unemployment benefits, and benefits to the disabled or dependen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590920" y="3352680"/>
            <a:ext cx="3657600" cy="27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92240"/>
            <a:ext cx="8229600" cy="13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Federal Emergency Relief Act:  FERA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ave direct aid to state and local governments for the unemploy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2971800" y="2590920"/>
            <a:ext cx="3352680" cy="327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92240"/>
            <a:ext cx="8229600" cy="13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Securities Exchange Commission:  SEC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gulates the stock market and banks to prevent frau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1066680" y="3048120"/>
            <a:ext cx="2895840" cy="289548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2"/>
          <a:stretch/>
        </p:blipFill>
        <p:spPr>
          <a:xfrm>
            <a:off x="5181480" y="3505320"/>
            <a:ext cx="2362320" cy="2033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2T14:50:30Z</dcterms:created>
  <dc:creator>Dominic Lambek</dc:creator>
  <dc:description/>
  <dc:language>en-US</dc:language>
  <cp:lastModifiedBy>Dominic Lambek</cp:lastModifiedBy>
  <dcterms:modified xsi:type="dcterms:W3CDTF">2010-05-06T02:50:36Z</dcterms:modified>
  <cp:revision>6</cp:revision>
  <dc:subject/>
  <dc:title>The New Deal</dc:title>
</cp:coreProperties>
</file>